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797B-9328-47D8-A4BD-001FA46244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AB25-2462-4642-9923-1B3F2B783F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55D6-CCD2-4935-A77E-FDBFA4F28A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13A3-6279-43B9-AAB9-AFD4B4EBA0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48B9-0D20-4FD5-B05B-2C169E0600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26A6-9E90-4E9A-9A8D-2EF1EA8222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BDC2-93A9-4025-A8FB-35936DA7F2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EB83-DBA3-4EEE-810D-AD781E93B5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6663-211E-4EF3-A7A0-79A1CF9CED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3C72-D348-49F6-A711-7309E5A28F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9302-7825-4DF6-A52E-69F8AD54A4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F7A-6B0C-4F16-8A22-B2E9B239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9AD-C8E1-4B8F-BA0C-FDF64470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B90-B59C-4D4D-93BC-3EFB2D65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420-089F-4743-AE11-8AD56CBC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221-ECCA-4209-A0B2-19E73432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76A-AFAF-45B1-817D-4B6C0BCC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8A6-DADA-4FF7-B97F-2E7E790E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CCF-DF5D-4BFC-A999-ABA4001C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659-4B66-4A90-8CAA-EA374549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F25-441F-4DF9-B6F5-CD49FC95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D69-484D-46DD-9828-AB014A9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54D-79B0-4815-B41A-D0FEF93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13BB-1A36-4BB8-87A8-E2B1966159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4T20:55:53Z</dcterms:modified>
  <cp:revision>36</cp:revision>
  <dc:subject/>
  <dc:title>People who change the world</dc:title>
</cp:coreProperties>
</file>